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4742-9458-4E44-BB76-DEA1B1C5A17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8333-59EF-4C87-8A49-9A1A5A1116C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B81D-AC6B-4D58-B7CE-C380A49A0DB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1C96-C7A4-4BB2-AF89-B2B19DBF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3C29-D186-402C-B065-E4B6B83B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8CB7-B47B-471F-921A-F0B1A410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C9AD-6EE3-4B93-B5F0-45BF0A64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9992-4D46-4F5F-BCAE-C9924C59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96D6-B17E-4A4C-9768-91142BF3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C1B5-4C15-4A0C-AC0B-C116CC87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DF61-824E-4DA4-9F58-1E7CF663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F080-81F3-499D-AFF2-0C03A2BF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99A0-B5B5-4FE1-9709-A173F070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A4A1-F476-4080-9183-FA7B490F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C291-E6A7-4D80-9494-70F0202F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C796-3634-43BF-9E8F-1272A0122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UMTS - Security</a:t>
            </a:r>
            <a:br>
              <a:rPr sz="4800"/>
            </a:b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Stand der Standardisier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oland Schmi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Nova Deutsche Telekom Innovationsgesell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chnologiezentrum Darm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efan Pü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Mo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Operationen auf der US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219320"/>
          <a:ext cx="6858000" cy="48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685800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010280" y="5195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HLR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5729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Key Fres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41008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594360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G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22520" y="1523880"/>
          <a:ext cx="3878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2520" y="1523880"/>
                    <a:ext cx="3878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U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776680" y="1523880"/>
          <a:ext cx="37764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6680" y="1523880"/>
                    <a:ext cx="37764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0492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KASUMI: Der UMTS Cipher- and Integrity Algorithm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SUMI = Jap.: Nebel (Blockchiff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schlüsselungsalgo. f8: KASUMI in OFB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iert auf der Blockchiffre MIST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Designer: M. Matsui, Mitsubish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wickelt von ETSI SAGE (07/99-10/99)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SAGE: Security Algorithm Group of Expe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aluation durch drei Teams (11/99-12/9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rt Preneel/Lars Knudsen (Leuven/Ber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cques Stern (ENS Pa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ed Piper (Royal Holloway Lond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kation erwartet unter www.etsi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Ausblick: 3G Security Work Items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 based 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bile execution environment (MexE)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sibility and config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M application secu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ud information gathering syst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catio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HE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iteraturhinwe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lker M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ecurity of 3G System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 Proc. EUROCRYPT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ity for the Third-Generation Mobile Radio System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M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ritish Telecom. Engineering Journal, Aug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Transport of Authentication Data in Third-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eneration Mobile Network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CQRE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Interoperation of 2G and 3G Mobile Networks,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3G2000/Mobile Communication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Überbli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- Standardisierungsgrem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Übersicht UMTS-Sicherh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inzip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ungen gegenüber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Authentikationsprotokol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Authentication and Key Agreement Protoc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2G/3G Inter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Verschlüsselungsalgorithmus KAS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s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Beteiligte Grem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 (3rd Geneneration Partnership Pro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aufbauend auf GSM Spezifik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teiligte Organis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TSI (Euro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IB, TTC (Jap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TA (Ko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1 (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WTS (Ch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basierend auf ANSI/TIA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Security Working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gründet Februar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. Walker, Vodafone (chair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. Pütz, T-Mobil; M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vici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ucent (vice chai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tretene Parte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steller: Alcatel, Ericsso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plu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Lucent, Mitsubishi, Motorola, Nokia , Panasonic, Sie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treiber: BT, FT, ICO, MMO, NTT DoCoM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komtel, Philip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lenor, Telia, T-Mobil, 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hörden: BMWi, DTI, Re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is-Dokumen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GPP TS 33.102 UMTS Security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cherheitsprinzipien von UM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18280" cy="4551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basiert auf 2G Sicherheitsarchite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währte 2G Sicherheitselemente wie die SIM-Karte als Sicherheitsmodul werden übernomm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verbessert die Sicherheit von 2G 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kannte Schwächen von 2G Systemen werden korrigie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wird neue Sicherheitsdienste ermögli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3240" y="533520"/>
            <a:ext cx="80186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rkannte Schwächen der 2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01504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ktive Attacken (“IMSI Catching”) basierend auf “False Base Sta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schlüsselung endet in den Basisst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lüssel und Authentikationsdaten werden im Klartext innerhalb und zwischen Netzen übermitte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in 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oretische Attacken auf den Verschlüsselungs-algorithmus A5/1 veröffent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Verbesserungen durch 3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thentikation des HLRs gegenüber der U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achweis frischer Schlüssel (Key fresh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eue Algorit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128 Bit Schlüssellängen (K, CK, I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erschlüsselung endet im R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Optionaler Die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-wide user traffic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Authentication and Key Agreement (AKA)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19320" y="1600200"/>
          <a:ext cx="670536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70536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rzeugen des UMTS Authentikationsvektors im AU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66840" y="1498680"/>
          <a:ext cx="63532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1498680"/>
                    <a:ext cx="63532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11:20:17Z</dcterms:created>
  <dc:creator>schmitz</dc:creator>
  <dc:description/>
  <dc:language>en-US</dc:language>
  <cp:lastModifiedBy>Superuser</cp:lastModifiedBy>
  <cp:lastPrinted>2000-03-26T20:41:21Z</cp:lastPrinted>
  <dcterms:modified xsi:type="dcterms:W3CDTF">2002-04-20T19:07:24Z</dcterms:modified>
  <cp:revision>25</cp:revision>
  <dc:subject/>
  <dc:title>Secure Interoperation  of 2G and 3G Networks</dc:title>
</cp:coreProperties>
</file>